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5E4-9D18-46ED-B272-D8FE8025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603-FF0E-4533-A037-B8B7AD87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7E3-D532-4A4D-9DF4-9F896F1B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52C-7F1D-468F-AB09-E1F80768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012A-A732-412C-B65E-36CF4E21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473C-B360-4CB7-A7AC-FE2140DD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73A-8A0C-445F-AD26-F2447490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8A62-E462-4A05-911D-C58014DC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CADC-4514-4914-9024-02076D62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623C-8C2D-4899-9D6C-311D9915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4829-DB33-4AD5-8798-C3C17B9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76C-075B-44DF-B689-A0D01483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CCC-4DC7-42DD-A5D1-09F64A53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E345-5BDB-4367-986C-21DB17B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5441-3CA6-4F45-AB82-64A8CD68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9CC7-32CF-4665-8858-869D0481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92DA-EA87-4742-B373-9FF96F9F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336-B538-488F-9157-1F138CED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A1B-5EC2-4E13-B8BD-94E42486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0AD-D2B9-41ED-8C62-A874064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3FC-3676-4FAA-A506-D62A315C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37B-7E88-44C0-85D4-2FADF820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703-872B-4A6C-964D-F12F79D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A77-1353-48AB-AC59-9DA093FF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0BBD-243A-4A19-A607-F2C739C98D2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3EF3-4C34-4098-9F71-8B051A2975D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Monosaccharide#Gemeinsame_Eigenschaften" TargetMode="External"/><Relationship Id="rId2" Type="http://schemas.openxmlformats.org/officeDocument/2006/relationships/hyperlink" Target="http://www.bs-wiki.de/mediawiki/index.php/Monosaccharide#Unterschiedliche_Eigenschaften" TargetMode="External"/><Relationship Id="rId3" Type="http://schemas.openxmlformats.org/officeDocument/2006/relationships/hyperlink" Target="http://www.bs-wiki.de/mediawiki/index.php/Monosaccharide#Struktur" TargetMode="External"/><Relationship Id="rId4" Type="http://schemas.openxmlformats.org/officeDocument/2006/relationships/hyperlink" Target="http://www.bs-wiki.de/mediawiki/index.php/Monosaccharide#Aldosen_und_Ketosen" TargetMode="External"/><Relationship Id="rId5" Type="http://schemas.openxmlformats.org/officeDocument/2006/relationships/hyperlink" Target="http://www.bs-wiki.de/mediawiki/index.php/Monosaccharide#Aldosen_und_Ketosen" TargetMode="External"/><Relationship Id="rId6" Type="http://schemas.openxmlformats.org/officeDocument/2006/relationships/hyperlink" Target="http://www.bs-wiki.de/mediawiki/index.php/Monosaccharide#Aldosen_und_Ketosen" TargetMode="External"/><Relationship Id="rId7" Type="http://schemas.openxmlformats.org/officeDocument/2006/relationships/hyperlink" Target="http://www.bs-wiki.de/mediawiki/index.php/Monosaccharide#Aldosen_und_Ketosen" TargetMode="External"/><Relationship Id="rId8" Type="http://schemas.openxmlformats.org/officeDocument/2006/relationships/hyperlink" Target="http://www.bs-wiki.de/mediawiki/index.php/Monosaccharide#Halbacetalbildung" TargetMode="External"/><Relationship Id="rId9" Type="http://schemas.openxmlformats.org/officeDocument/2006/relationships/hyperlink" Target="http://www.bs-wiki.de/mediawiki/index.php/Monosaccharide#.CE.B1-_und_.CE.B2-Form" TargetMode="External"/><Relationship Id="rId10" Type="http://schemas.openxmlformats.org/officeDocument/2006/relationships/hyperlink" Target="http://www.bs-wiki.de/mediawiki/index.php/Monosaccharide#asymmetrisches_C-Atom" TargetMode="External"/><Relationship Id="rId11" Type="http://schemas.openxmlformats.org/officeDocument/2006/relationships/hyperlink" Target="http://www.bs-wiki.de/mediawiki/index.php/Monosaccharide#Zuordnung_zur_D-_und_L-Reihe" TargetMode="Externa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Monosacchar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 Janina und K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21160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- und β-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i der Halbacetalbildung ist ein asymmetrischen C-Atom entstand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 Stellung der OH-Gruppe kennzeichnet die Zuordnung zur α- oder β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124000" y="4365720"/>
            <a:ext cx="47674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ymmetrisches C-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halten in allen MS mit Ausnahme vom  Dihydroxyac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besitzt vier versch. Valenzen mit vier versch. Funktionelle Gruppen oder At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1467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ordnung zur D- und L-Rei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kann in zwei stereoisomeren Formen vorlie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-Reihe = Hydroxylgruppe rec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-Reihe = Hydroxylgruppe l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2141640" cy="2492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435400" cy="2492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348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sche Aktivitä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können die Schwingungsebene polarisierten Lichts nach rechts und nach links dre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werden auch optische Antipoden genan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uta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änderung des Drehwinkels des Lichtes durch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nd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zu 37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nd zu 63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dreht das Licht um 112° und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m 19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63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9°+37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12°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=53,41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hysiologischer We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zen im Kör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 des Glucosespieg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äh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2720" y="1197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73200" y="2060640"/>
            <a:ext cx="3687840" cy="4281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yn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üßen von L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chn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 von Monosacchar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1 Gemeinsam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2 Unterschiedlich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2.1 Struktur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2.2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Aldosen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 und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Ketos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2.3 Halbacetalbildu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2.3.1 α- und β-Form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2.4 asymmetrisches C-At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2.4.1 Zuordnung zur D- und L-Reih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2 Optische Aktivitä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3 Muta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3 Physiologischer We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 Nutz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1 prakt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2 techn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och Fragen 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463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ISBN 3-507-10630-2, S. 360/361, 365, 369, 380/38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undfragen der Ernährung, Handwerk und Technik, ISBN 3-582-04475-0, S. 23-2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S sind Einfachzu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steine der Saccha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wichtigsten MS für die Ernährung heißen Glucose, Fructose, Mannose &amp; Galakt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kommen: versch. Obstsorten &amp; Hon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ntstehen aus mehrwertigen Alkoho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6920" y="3429000"/>
            <a:ext cx="1368360" cy="2600280"/>
            <a:chOff x="826920" y="3429000"/>
            <a:chExt cx="1368360" cy="2600280"/>
          </a:xfrm>
        </p:grpSpPr>
        <p:sp>
          <p:nvSpPr>
            <p:cNvPr id="221" name=""/>
            <p:cNvSpPr/>
            <p:nvPr/>
          </p:nvSpPr>
          <p:spPr>
            <a:xfrm>
              <a:off x="1260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7280" y="3932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6920" y="4508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920" y="508464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5661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03280" y="371628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3280" y="429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03280" y="4868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3280" y="544500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67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933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- C - 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8720" y="566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1640" y="3716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869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27640" y="3357720"/>
            <a:ext cx="1368720" cy="2673000"/>
            <a:chOff x="6227640" y="3357720"/>
            <a:chExt cx="1368720" cy="2673000"/>
          </a:xfrm>
        </p:grpSpPr>
        <p:sp>
          <p:nvSpPr>
            <p:cNvPr id="240" name=""/>
            <p:cNvSpPr/>
            <p:nvPr/>
          </p:nvSpPr>
          <p:spPr>
            <a:xfrm>
              <a:off x="665964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00720" y="39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- C - O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4510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7640" y="508644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1080" y="56624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04000" y="371772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000" y="429408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4000" y="48704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4000" y="544680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>
            <a:off x="2411280" y="4653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653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964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602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036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hydroxyac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 können in Ring- oder Kettenform dargestell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763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ldosen und Keto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s können Aldosen, Ketosen und mehrere Hydroxylgruppen ent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primären Hydroxylgruppe zur Aldehyd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Al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sekundären Hydroxylgruppe zur Keto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Ket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dose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eto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76360" y="5516640"/>
            <a:ext cx="635040" cy="1027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84720" y="5589720"/>
            <a:ext cx="7412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bacetalbil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 H-Atom der Hydroxylgruppe wandert zur funktionellen Grup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ch das O-Atom der Hydroxylgruppe entsteht eine Sauerstoffbrüc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1838160" cy="563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6408720" cy="6394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35280" y="321300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35640" y="3357360"/>
            <a:ext cx="1152360" cy="215640"/>
            <a:chOff x="3635640" y="3357360"/>
            <a:chExt cx="1152360" cy="215640"/>
          </a:xfrm>
        </p:grpSpPr>
        <p:sp>
          <p:nvSpPr>
            <p:cNvPr id="270" name=""/>
            <p:cNvSpPr/>
            <p:nvPr/>
          </p:nvSpPr>
          <p:spPr>
            <a:xfrm flipH="1">
              <a:off x="3635640" y="3357360"/>
              <a:ext cx="11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635640" y="3357360"/>
              <a:ext cx="360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0:15:09Z</dcterms:created>
  <dc:creator>Janina</dc:creator>
  <dc:description/>
  <dc:language>en-US</dc:language>
  <cp:lastModifiedBy>Janina</cp:lastModifiedBy>
  <dcterms:modified xsi:type="dcterms:W3CDTF">2006-12-07T15:10:20Z</dcterms:modified>
  <cp:revision>13</cp:revision>
  <dc:subject/>
  <dc:title>Monosaccharide</dc:title>
</cp:coreProperties>
</file>